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7.gif" ContentType="image/gif"/>
  <Override PartName="/ppt/media/image1.jpeg" ContentType="image/jpeg"/>
  <Override PartName="/ppt/media/image2.png" ContentType="image/pn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gif" ContentType="image/gif"/>
  <Override PartName="/ppt/media/image9.png" ContentType="image/png"/>
  <Override PartName="/ppt/media/image14.jpeg" ContentType="image/jpe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8A3-FE77-4C58-BBB9-DA6808A2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9B1-0B0C-40E5-8A38-9147C0A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E57-AC84-4D28-96B0-64AA222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EE4-7F0B-4857-843F-9B16C70E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554-953E-4642-98C8-CBFA17E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5852-C37D-4C96-82A2-1EB0E1F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7ED1-ED2E-44E9-AE06-85353B84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4D0-1040-4E0D-98A0-756E5F3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0E8-7D45-4C7A-93C3-F2006114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A6E8-1E8E-4095-A345-5187D0C3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55D0-5C93-4472-8080-E24F399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751-7E59-4172-8495-537970A3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EED-C9FE-4F14-B891-C87654E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BE3-8756-4791-8557-ABFBD09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7318-711E-4F48-AC28-E0C2047B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6C7E-B08C-4A4D-BF05-412F77E3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991-080D-4861-B93A-1AF6CA95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BB4-B6A5-4D07-9A66-A081E40D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2AA-E116-4B52-A455-94706FA7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214-F4B0-4E50-8EAD-910B6A6B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187-D632-4C55-984E-2E82E9A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A95-B1A4-4993-B09E-993FAEF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20E-F325-4E31-9802-8B78B4B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8A9-194C-4A3B-A937-CB79B74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641-3B4D-407B-BB08-FE80FE2DD13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4B7-0B83-4817-AD9E-B4C27A5562A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97876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ul and Mat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14" descr="http://www.glogster.com/media/2/3/86/14/3861484.jpg"/>
          <p:cNvPicPr/>
          <p:nvPr/>
        </p:nvPicPr>
        <p:blipFill>
          <a:blip r:embed="rId2"/>
          <a:stretch/>
        </p:blipFill>
        <p:spPr>
          <a:xfrm>
            <a:off x="1600200" y="3581280"/>
            <a:ext cx="5867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28600" y="1219320"/>
          <a:ext cx="8686800" cy="3809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OL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eeps it shape, particles arranged in pattern  (rig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akes the shape of what you put it in, particles are close together but not arranged (less rigi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verfills and moves out of container , particles not arranged (loos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ard to change shape (will not compress, little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t easy to compress (little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n compress (lots of space between partic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es not flow (particles do not slide past each oth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lows easy (particles slide past each oth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rticles vibrate and move at high speed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14" descr="gas.gif"/>
          <p:cNvPicPr/>
          <p:nvPr/>
        </p:nvPicPr>
        <p:blipFill>
          <a:blip r:embed="rId2"/>
          <a:stretch/>
        </p:blipFill>
        <p:spPr>
          <a:xfrm>
            <a:off x="6095880" y="51055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liquid.gif"/>
          <p:cNvPicPr/>
          <p:nvPr/>
        </p:nvPicPr>
        <p:blipFill>
          <a:blip r:embed="rId3"/>
          <a:stretch/>
        </p:blipFill>
        <p:spPr>
          <a:xfrm>
            <a:off x="3200400" y="51055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solid.gif"/>
          <p:cNvPicPr/>
          <p:nvPr/>
        </p:nvPicPr>
        <p:blipFill>
          <a:blip r:embed="rId4"/>
          <a:stretch/>
        </p:blipFill>
        <p:spPr>
          <a:xfrm>
            <a:off x="304920" y="510552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ce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s a regular sha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rd to comp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es not flo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eps shape if maintained below freezing tempera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4" descr="statesofmatter.gif"/>
          <p:cNvPicPr/>
          <p:nvPr/>
        </p:nvPicPr>
        <p:blipFill>
          <a:blip r:embed="rId2"/>
          <a:srcRect l="0" t="16956" r="67004" b="12009"/>
          <a:stretch/>
        </p:blipFill>
        <p:spPr>
          <a:xfrm>
            <a:off x="6629400" y="228600"/>
            <a:ext cx="1638360" cy="228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ce-cubes.jpg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ater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kes shape of what it is poured int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ard to comp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lows easi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eps shape in contain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7" descr="statesofmatter.gif"/>
          <p:cNvPicPr/>
          <p:nvPr/>
        </p:nvPicPr>
        <p:blipFill>
          <a:blip r:embed="rId2"/>
          <a:srcRect l="38004" t="12929" r="26004" b="9850"/>
          <a:stretch/>
        </p:blipFill>
        <p:spPr>
          <a:xfrm>
            <a:off x="6553080" y="233280"/>
            <a:ext cx="1752840" cy="243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water.jpg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19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ater Vapor (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es not take a definite sha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be compres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lows easi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ves out or escapes contain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statesofmatter.gif"/>
          <p:cNvPicPr/>
          <p:nvPr/>
        </p:nvPicPr>
        <p:blipFill>
          <a:blip r:embed="rId2"/>
          <a:srcRect l="80006" t="0" r="0" b="6756"/>
          <a:stretch/>
        </p:blipFill>
        <p:spPr>
          <a:xfrm>
            <a:off x="6705720" y="228600"/>
            <a:ext cx="761760" cy="23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louds.jpg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phase changes.jpg"/>
          <p:cNvPicPr/>
          <p:nvPr/>
        </p:nvPicPr>
        <p:blipFill>
          <a:blip r:embed="rId2"/>
          <a:stretch/>
        </p:blipFill>
        <p:spPr>
          <a:xfrm>
            <a:off x="914400" y="1214280"/>
            <a:ext cx="72388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3:21:19Z</dcterms:created>
  <dc:creator>pmichalski</dc:creator>
  <dc:description/>
  <dc:language>en-US</dc:language>
  <cp:lastModifiedBy>pmichalski</cp:lastModifiedBy>
  <dcterms:modified xsi:type="dcterms:W3CDTF">2010-11-09T14:29:31Z</dcterms:modified>
  <cp:revision>19</cp:revision>
  <dc:subject/>
  <dc:title>States of matter and Phase changes</dc:title>
</cp:coreProperties>
</file>